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6914-2FB6-48FC-8C38-5149002AF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4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4116600"/>
            <a:ext cx="8004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6FDD-7EA0-4378-9C1E-3455002A1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11660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39920" y="411660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813D-0CCB-43B5-B689-365AE1452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4560" y="190512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1040" y="190512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411660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4560" y="411660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1040" y="411660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981FD-CECF-4739-A186-04D0D1582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B01A1-ECF3-4D28-AFF7-3DECF20F55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800424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D82CC-9DCE-48DC-9E4A-7AC40FA13D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42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A2C96-C478-46B7-A5AC-5EFB9AFD97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63CE3-6465-499A-BC9B-A062FF656C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37DD2-1568-4E2B-8F53-1BB3A22DD4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6840" y="243000"/>
            <a:ext cx="83818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771B2-A6C5-41ED-AA6C-A40648504E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11660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7D7F8-A6B4-49E5-AF9E-E96B7ACF51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800424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242C-EDBD-4768-A8DE-DF4252B3E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9920" y="411660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AEEED-FEC4-49F8-B65E-05269C8816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116600"/>
            <a:ext cx="8004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024C2-78D3-40DD-9376-1CB5E3C005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4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8080" y="4116600"/>
            <a:ext cx="8004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74E0B-E0F0-466C-951A-C9BD878701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11660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9920" y="411660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8A233-3A17-453C-84F5-45AFCF6BA5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4560" y="190512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1040" y="190512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8080" y="411660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4560" y="411660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1040" y="411660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15434-C51A-4843-835C-F3CCC46809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42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D06A6-258E-45C1-8058-3E768161B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E91A0-0633-49C2-8CE9-2B9C34C67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3083-63C3-412A-AB4F-5F735A672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43000"/>
            <a:ext cx="83818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0FFF8-A33A-42C5-BC14-C63C11A19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11660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9B217-A9F2-4E74-AAC9-C38BEC318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39920" y="411660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94C48-E554-4CEC-BD8F-6CFC62B26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16600"/>
            <a:ext cx="8004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DA8FD-1153-45A2-891A-5F24A3A97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318960" y="1828800"/>
            <a:ext cx="8821800" cy="5025960"/>
            <a:chOff x="318960" y="1828800"/>
            <a:chExt cx="8821800" cy="5025960"/>
          </a:xfrm>
        </p:grpSpPr>
        <p:sp>
          <p:nvSpPr>
            <p:cNvPr id="1" name="AutoShape 2"/>
            <p:cNvSpPr/>
            <p:nvPr/>
          </p:nvSpPr>
          <p:spPr>
            <a:xfrm>
              <a:off x="838080" y="4618080"/>
              <a:ext cx="8302680" cy="2236680"/>
            </a:xfrm>
            <a:custGeom>
              <a:avLst/>
              <a:gdLst>
                <a:gd name="textAreaLeft" fmla="*/ 0 w 8302680"/>
                <a:gd name="textAreaRight" fmla="*/ 8303040 w 83026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333360" y="1828800"/>
              <a:ext cx="8807400" cy="5025960"/>
            </a:xfrm>
            <a:custGeom>
              <a:avLst/>
              <a:gdLst>
                <a:gd name="textAreaLeft" fmla="*/ 0 w 8807400"/>
                <a:gd name="textAreaRight" fmla="*/ 8807760 w 8807400"/>
                <a:gd name="textAreaTop" fmla="*/ 0 h 5025960"/>
                <a:gd name="textAreaBottom" fmla="*/ 5026320 h 502596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>
              <a:off x="838080" y="4654440"/>
              <a:ext cx="8302680" cy="2200320"/>
            </a:xfrm>
            <a:custGeom>
              <a:avLst/>
              <a:gdLst>
                <a:gd name="textAreaLeft" fmla="*/ 0 w 8302680"/>
                <a:gd name="textAreaRight" fmla="*/ 8303040 w 8302680"/>
                <a:gd name="textAreaTop" fmla="*/ 0 h 2200320"/>
                <a:gd name="textAreaBottom" fmla="*/ 2200680 h 22003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838080" y="1828800"/>
              <a:ext cx="7310520" cy="42840"/>
            </a:xfrm>
            <a:custGeom>
              <a:avLst/>
              <a:gdLst>
                <a:gd name="textAreaLeft" fmla="*/ 0 w 7310520"/>
                <a:gd name="textAreaRight" fmla="*/ 7310880 w 73105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4e02"/>
                </a:gs>
                <a:gs pos="100000">
                  <a:srgbClr val="bb5f03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838080" y="1828800"/>
              <a:ext cx="42840" cy="2830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830680"/>
                <a:gd name="textAreaBottom" fmla="*/ 2831040 h 283068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c372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AutoShape 7"/>
            <p:cNvSpPr/>
            <p:nvPr/>
          </p:nvSpPr>
          <p:spPr>
            <a:xfrm>
              <a:off x="836640" y="4610160"/>
              <a:ext cx="42840" cy="2244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44600"/>
                <a:gd name="textAreaBottom" fmla="*/ 2244600 h 224460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c372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318960" y="4610160"/>
              <a:ext cx="4567320" cy="42840"/>
            </a:xfrm>
            <a:custGeom>
              <a:avLst/>
              <a:gdLst>
                <a:gd name="textAreaLeft" fmla="*/ 0 w 4567320"/>
                <a:gd name="textAreaRight" fmla="*/ 4567680 w 45673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4e02"/>
                </a:gs>
                <a:gs pos="100000">
                  <a:srgbClr val="bb5f03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318960" y="4610160"/>
              <a:ext cx="44640" cy="22446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244600"/>
                <a:gd name="textAreaBottom" fmla="*/ 2244600 h 224460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c372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Text Box 10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sldNum" idx="1"/>
          </p:nvPr>
        </p:nvSpPr>
        <p:spPr>
          <a:xfrm>
            <a:off x="6936840" y="6245280"/>
            <a:ext cx="1899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157FF-9040-48E5-9204-E5C7E5E9C6A7}" type="slidenum">
              <a:rPr b="0" lang="pl-P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838080" y="1905120"/>
            <a:ext cx="80042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318960" y="1752480"/>
            <a:ext cx="8821800" cy="5126040"/>
            <a:chOff x="318960" y="1752480"/>
            <a:chExt cx="8821800" cy="5126040"/>
          </a:xfrm>
        </p:grpSpPr>
        <p:sp>
          <p:nvSpPr>
            <p:cNvPr id="51" name="AutoShape 2"/>
            <p:cNvSpPr/>
            <p:nvPr/>
          </p:nvSpPr>
          <p:spPr>
            <a:xfrm>
              <a:off x="333360" y="1752480"/>
              <a:ext cx="8807400" cy="5102280"/>
            </a:xfrm>
            <a:custGeom>
              <a:avLst/>
              <a:gdLst>
                <a:gd name="textAreaLeft" fmla="*/ 0 w 8807400"/>
                <a:gd name="textAreaRight" fmla="*/ 8807760 w 8807400"/>
                <a:gd name="textAreaTop" fmla="*/ 0 h 5102280"/>
                <a:gd name="textAreaBottom" fmla="*/ 5102280 h 510228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AutoShape 3"/>
            <p:cNvSpPr/>
            <p:nvPr/>
          </p:nvSpPr>
          <p:spPr>
            <a:xfrm>
              <a:off x="838080" y="3809880"/>
              <a:ext cx="8302680" cy="3044880"/>
            </a:xfrm>
            <a:custGeom>
              <a:avLst/>
              <a:gdLst>
                <a:gd name="textAreaLeft" fmla="*/ 0 w 8302680"/>
                <a:gd name="textAreaRight" fmla="*/ 8303040 w 8302680"/>
                <a:gd name="textAreaTop" fmla="*/ 0 h 3044880"/>
                <a:gd name="textAreaBottom" fmla="*/ 3045240 h 304488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4"/>
            <p:cNvSpPr/>
            <p:nvPr/>
          </p:nvSpPr>
          <p:spPr>
            <a:xfrm>
              <a:off x="318960" y="3773520"/>
              <a:ext cx="5481720" cy="42840"/>
            </a:xfrm>
            <a:custGeom>
              <a:avLst/>
              <a:gdLst>
                <a:gd name="textAreaLeft" fmla="*/ 0 w 5481720"/>
                <a:gd name="textAreaRight" fmla="*/ 5482080 w 54817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4e02"/>
                </a:gs>
                <a:gs pos="100000">
                  <a:srgbClr val="bb5f03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"/>
            <p:cNvSpPr/>
            <p:nvPr/>
          </p:nvSpPr>
          <p:spPr>
            <a:xfrm>
              <a:off x="838080" y="1752480"/>
              <a:ext cx="7766280" cy="42840"/>
            </a:xfrm>
            <a:custGeom>
              <a:avLst/>
              <a:gdLst>
                <a:gd name="textAreaLeft" fmla="*/ 0 w 7766280"/>
                <a:gd name="textAreaRight" fmla="*/ 7766640 w 776628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4e02"/>
                </a:gs>
                <a:gs pos="100000">
                  <a:srgbClr val="bb5f03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AutoShape 6"/>
            <p:cNvSpPr/>
            <p:nvPr/>
          </p:nvSpPr>
          <p:spPr>
            <a:xfrm>
              <a:off x="318960" y="3773520"/>
              <a:ext cx="44640" cy="31050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105000"/>
                <a:gd name="textAreaBottom" fmla="*/ 3105360 h 310500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c372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AutoShape 7"/>
            <p:cNvSpPr/>
            <p:nvPr/>
          </p:nvSpPr>
          <p:spPr>
            <a:xfrm>
              <a:off x="838080" y="1752480"/>
              <a:ext cx="42840" cy="5116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6680"/>
                <a:gd name="textAreaBottom" fmla="*/ 5117040 h 511668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c372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80042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99072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2"/>
          </p:nvPr>
        </p:nvSpPr>
        <p:spPr>
          <a:xfrm>
            <a:off x="6936840" y="6245280"/>
            <a:ext cx="1899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F488BC8-E15A-491E-A35B-832BC07485FC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800" spc="-1" strike="noStrike">
                <a:solidFill>
                  <a:srgbClr val="feec94"/>
                </a:solidFill>
                <a:latin typeface="Arial Black"/>
              </a:rPr>
              <a:t>Znajdź właściwe rozwiązani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1932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rogram profilaktyki palenia tytoniu dla uczniów starszych klas szkoły podstawowej  </a:t>
            </a:r>
            <a:br>
              <a:rPr sz="32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8600" y="4114800"/>
            <a:ext cx="539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0" y="4267080"/>
            <a:ext cx="6458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Sekcja Profilaktyki Zdrowotnej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owiatowa Stacj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Sanitarno – Epidemiologiczna  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w Torun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5334120" y="4038480"/>
            <a:ext cx="3200400" cy="23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400" spc="-1" strike="noStrike">
                <a:solidFill>
                  <a:srgbClr val="feec94"/>
                </a:solidFill>
                <a:latin typeface="Arial Black"/>
              </a:rPr>
              <a:t>Warsztat V</a:t>
            </a:r>
            <a:br>
              <a:rPr sz="4400"/>
            </a:br>
            <a:r>
              <a:rPr b="1" lang="pl-PL" sz="4400" spc="-1" strike="noStrike">
                <a:solidFill>
                  <a:srgbClr val="feec94"/>
                </a:solidFill>
                <a:latin typeface="Arial Black"/>
              </a:rPr>
              <a:t>Uwierz w sieb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304920" y="1197000"/>
            <a:ext cx="8458200" cy="52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just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zmocnienie poczucia własnej wartości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just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zbudzenie pozytywnego myślenia o sobi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just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ształcenie ważnych umiejętności w kontaktach z ludź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3419640" y="4076640"/>
            <a:ext cx="237636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457200" y="-182520"/>
            <a:ext cx="8385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800"/>
            </a:br>
            <a:r>
              <a:rPr b="0" i="1" lang="pl-PL" sz="4800" spc="-1" strike="noStrike">
                <a:solidFill>
                  <a:srgbClr val="ffff99"/>
                </a:solidFill>
                <a:latin typeface="Arial Black"/>
              </a:rPr>
              <a:t>Dziękuję za uwagę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Group 2"/>
          <p:cNvGrpSpPr/>
          <p:nvPr/>
        </p:nvGrpSpPr>
        <p:grpSpPr>
          <a:xfrm>
            <a:off x="2971800" y="1752480"/>
            <a:ext cx="3336840" cy="4340520"/>
            <a:chOff x="2971800" y="1752480"/>
            <a:chExt cx="3336840" cy="4340520"/>
          </a:xfrm>
        </p:grpSpPr>
        <p:pic>
          <p:nvPicPr>
            <p:cNvPr id="130" name="Picture 3" descr=""/>
            <p:cNvPicPr/>
            <p:nvPr/>
          </p:nvPicPr>
          <p:blipFill>
            <a:blip r:embed="rId1"/>
            <a:stretch/>
          </p:blipFill>
          <p:spPr>
            <a:xfrm>
              <a:off x="2971800" y="1752480"/>
              <a:ext cx="3336840" cy="434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4"/>
            <p:cNvSpPr/>
            <p:nvPr/>
          </p:nvSpPr>
          <p:spPr>
            <a:xfrm>
              <a:off x="2971800" y="1752480"/>
              <a:ext cx="3336840" cy="43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0" y="-747720"/>
            <a:ext cx="8604360" cy="76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just">
              <a:spcBef>
                <a:spcPts val="799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spcBef>
                <a:spcPts val="799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 algn="just">
              <a:lnSpc>
                <a:spcPct val="100000"/>
              </a:lnSpc>
              <a:spcBef>
                <a:spcPts val="700"/>
              </a:spcBef>
              <a:buClr>
                <a:srgbClr val="b76a03"/>
              </a:buClr>
              <a:buFont typeface="Arial"/>
              <a:buChar char="•"/>
              <a:tabLst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rogram </a:t>
            </a:r>
            <a:r>
              <a:rPr b="0" i="1" lang="pl-PL" sz="3200" spc="-1" strike="noStrike">
                <a:solidFill>
                  <a:srgbClr val="feec94"/>
                </a:solidFill>
                <a:latin typeface="Arial"/>
              </a:rPr>
              <a:t>„Znajdź właściwe rozwiązanie”</a:t>
            </a:r>
            <a:r>
              <a:rPr b="0" lang="pl-PL" sz="3200" spc="-1" strike="noStrike">
                <a:solidFill>
                  <a:srgbClr val="feec94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stanowi 3 ogniwo w cyklu programów antytytoniowych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 algn="just">
              <a:lnSpc>
                <a:spcPct val="100000"/>
              </a:lnSpc>
              <a:spcBef>
                <a:spcPts val="700"/>
              </a:spcBef>
              <a:buClr>
                <a:srgbClr val="b76a03"/>
              </a:buClr>
              <a:buFont typeface="Arial"/>
              <a:buChar char="•"/>
              <a:tabLst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adresowany jest do uczniów starszych klas szkoły podstawowej– w tym okresie gwałtownie wzrasta liczba dzieci 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i młodzieży próbujących po raz pierwszych zapalić papieros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 algn="just">
              <a:lnSpc>
                <a:spcPct val="100000"/>
              </a:lnSpc>
              <a:spcBef>
                <a:spcPts val="700"/>
              </a:spcBef>
              <a:buClr>
                <a:srgbClr val="b76a03"/>
              </a:buClr>
              <a:buFont typeface="Arial"/>
              <a:buChar char="•"/>
              <a:tabLst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skoncentrowany głównie na psychospołecznych mechanizmach kształtujących postawy i zachow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spcBef>
                <a:spcPts val="799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spcBef>
                <a:spcPts val="799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spcBef>
                <a:spcPts val="799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eec94"/>
                </a:solidFill>
                <a:latin typeface="Arial Black"/>
              </a:rPr>
              <a:t>Cel główny program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901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Zapobieganie paleniu tytoniu wśród uczniów starszych klas szkół podstawowy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4048200" cy="23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533520" y="189000"/>
            <a:ext cx="838512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000" spc="-1" strike="noStrike">
                <a:solidFill>
                  <a:srgbClr val="feec94"/>
                </a:solidFill>
                <a:latin typeface="Arial Black"/>
              </a:rPr>
              <a:t>Cele szczegółowe programu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79280" y="1268280"/>
            <a:ext cx="856944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większenie wiedzy w zakresie szkodliwości palenia tytoni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ształtowanie umiejętności dbania 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 zdrowie własne i swoich blisk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ształtowanie postaw asertywnych związanych z unikaniem biernego 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i czynnego pal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4859280" y="4508640"/>
            <a:ext cx="25192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400" spc="-1" strike="noStrike">
                <a:solidFill>
                  <a:srgbClr val="feec94"/>
                </a:solidFill>
                <a:latin typeface="Arial Black"/>
              </a:rPr>
              <a:t>Struktura program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828800"/>
            <a:ext cx="800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5 zajęć warsztatowy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oznajmy się bliże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Laboratorium ciał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Naucz się mówić „ni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najdź właściwe rozwiąza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Uwierz w sieb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400800" y="182880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57200" y="476280"/>
            <a:ext cx="83851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000" spc="-1" strike="noStrike">
                <a:solidFill>
                  <a:srgbClr val="feec94"/>
                </a:solidFill>
                <a:latin typeface="Arial Black"/>
              </a:rPr>
              <a:t>Warsztat I </a:t>
            </a:r>
            <a:br>
              <a:rPr sz="4000"/>
            </a:br>
            <a:r>
              <a:rPr b="1" lang="pl-PL" sz="4000" spc="-1" strike="noStrike">
                <a:solidFill>
                  <a:srgbClr val="feec94"/>
                </a:solidFill>
                <a:latin typeface="Arial Black"/>
              </a:rPr>
              <a:t>Poznajmy się bliżej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457200" y="2492280"/>
            <a:ext cx="8007480" cy="33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Integracja gru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yróżnienie lideró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Uzasadnienie i wzmocnienie postaw zobowiązujących do niepal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6300720" y="4653000"/>
            <a:ext cx="2089080" cy="13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7200" y="404640"/>
            <a:ext cx="838512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400" spc="-1" strike="noStrike">
                <a:solidFill>
                  <a:srgbClr val="feec94"/>
                </a:solidFill>
                <a:latin typeface="Arial Black"/>
              </a:rPr>
              <a:t>Warsztat II </a:t>
            </a:r>
            <a:br>
              <a:rPr sz="4400"/>
            </a:br>
            <a:r>
              <a:rPr b="1" lang="pl-PL" sz="4400" spc="-1" strike="noStrike">
                <a:solidFill>
                  <a:srgbClr val="feec94"/>
                </a:solidFill>
                <a:latin typeface="Arial Black"/>
              </a:rPr>
              <a:t>Laboratorium ciał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304920" y="2205000"/>
            <a:ext cx="854064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skazanie na doskonałe funkcjonowanie ludzkiego organizmu oraz na jego potrzeby,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a przede wszystkim konieczność odpowiedniego odżywiania się i czystego powietrz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4788000" y="4292640"/>
            <a:ext cx="28796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57200" y="0"/>
            <a:ext cx="83851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000" spc="-1" strike="noStrike">
                <a:solidFill>
                  <a:srgbClr val="feec94"/>
                </a:solidFill>
                <a:latin typeface="Arial Black"/>
              </a:rPr>
              <a:t>Warsztat III </a:t>
            </a:r>
            <a:br>
              <a:rPr sz="4000"/>
            </a:br>
            <a:r>
              <a:rPr b="1" lang="pl-PL" sz="4000" spc="-1" strike="noStrike">
                <a:solidFill>
                  <a:srgbClr val="feec94"/>
                </a:solidFill>
                <a:latin typeface="Arial Black"/>
              </a:rPr>
              <a:t>Naucz się mówić „ni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228600" y="1557360"/>
            <a:ext cx="86169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rzekazanie podstawowych wiadomości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nt. zachowań stanowczych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uczenie się rozpoznawania swoich zachowań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uświadomienie mechanizmu nacisku grupowego i uczenie się mówienia „ni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2916360" y="4581360"/>
            <a:ext cx="2952720" cy="20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457200" y="333360"/>
            <a:ext cx="83851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000" spc="-1" strike="noStrike">
                <a:solidFill>
                  <a:srgbClr val="feec94"/>
                </a:solidFill>
                <a:latin typeface="Arial Black"/>
              </a:rPr>
              <a:t>Warsztat IV</a:t>
            </a:r>
            <a:br>
              <a:rPr sz="4000"/>
            </a:br>
            <a:r>
              <a:rPr b="1" lang="pl-PL" sz="4000" spc="-1" strike="noStrike">
                <a:solidFill>
                  <a:srgbClr val="feec94"/>
                </a:solidFill>
                <a:latin typeface="Arial Black"/>
              </a:rPr>
              <a:t>Znajdź właściwe rozwiązani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228600" y="1628640"/>
            <a:ext cx="8388360" cy="47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rozpoznawanie emocji przeżywanych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 sytuacjach trudnych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uświadomienie mechanizmu konfliktu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rozwijanie umiejętności radzenia sobie 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 problem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5940360" y="42926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OZ</dc:creator>
  <dc:description/>
  <dc:language>en-US</dc:language>
  <cp:lastModifiedBy>PSSE Toruń - Patrycja Krumpolc</cp:lastModifiedBy>
  <dcterms:modified xsi:type="dcterms:W3CDTF">2024-11-21T12:35:18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